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93A53-7364-4EC8-9F90-BBD380ECA3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5AA88-4E61-4193-AF11-A604544D4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5BC5F-8B36-4E8B-8272-A2E85B2E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F5FE1-632B-4FBF-9026-7B87576ABF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C0948-4731-4C5A-9CA9-B486BED35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1A361-783E-46C9-8E46-858E0874D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5FE03-53A6-4022-B277-143D0F3C4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7D427-F7BD-4826-8333-1AB421A0D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D3009-EF91-4CF4-B33A-C414C77FF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D9B18-EC06-414C-BA0E-1289392C3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A0F99-8196-47F5-80E3-F7D7A0E1D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F58DD-F621-487E-B292-B3932550B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98324-9EEF-48F9-8C8B-CDF56F4E35B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32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章  康复治疗技术</a:t>
            </a: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五节  康复工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6732720" y="580536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杨正才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324000" y="3378240"/>
            <a:ext cx="40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buClr>
                <a:srgbClr val="ffc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上肢矫形器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将不稳定的肢体固定于功能位，保护麻痹的肌肉，防止拮抗肌挛缩，防止或矫正关节畸形，改善功能。常用的有手矫形器、腕手矫形器、肘腕手矫形器、肩肘腕手矫形器、肩吊带和平衡式前臂矫形器等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4" name="Picture 5" descr="new_splint_thumb"/>
          <p:cNvPicPr/>
          <p:nvPr/>
        </p:nvPicPr>
        <p:blipFill>
          <a:blip r:embed="rId1"/>
          <a:stretch/>
        </p:blipFill>
        <p:spPr>
          <a:xfrm>
            <a:off x="4932360" y="1916280"/>
            <a:ext cx="37720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DSC00037"/>
          <p:cNvPicPr/>
          <p:nvPr/>
        </p:nvPicPr>
        <p:blipFill>
          <a:blip r:embed="rId1"/>
          <a:stretch/>
        </p:blipFill>
        <p:spPr>
          <a:xfrm>
            <a:off x="611280" y="1628640"/>
            <a:ext cx="3779640" cy="4680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DSC00038"/>
          <p:cNvPicPr/>
          <p:nvPr/>
        </p:nvPicPr>
        <p:blipFill>
          <a:blip r:embed="rId2"/>
          <a:stretch/>
        </p:blipFill>
        <p:spPr>
          <a:xfrm>
            <a:off x="4859280" y="1628640"/>
            <a:ext cx="3781440" cy="46800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2"/>
          <p:cNvSpPr/>
          <p:nvPr/>
        </p:nvSpPr>
        <p:spPr>
          <a:xfrm>
            <a:off x="973080" y="40464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250920" y="3347280"/>
            <a:ext cx="41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buClr>
                <a:srgbClr val="ffc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脊柱矫形器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限制脊柱运动，稳定病变关节，减轻疼痛，减少椎体承重，促进病变愈合，保护麻痹的肌肉，预防和矫正畸形。常用产品有围腰、屈曲控制式矫形器、屈伸控制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LS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屈侧旋转控制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LS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和脊柱侧弯矫形性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LS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等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Picture 2" descr="DSC00049"/>
          <p:cNvPicPr/>
          <p:nvPr/>
        </p:nvPicPr>
        <p:blipFill>
          <a:blip r:embed="rId1"/>
          <a:stretch/>
        </p:blipFill>
        <p:spPr>
          <a:xfrm>
            <a:off x="4575240" y="907920"/>
            <a:ext cx="4568760" cy="3427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DSC00050"/>
          <p:cNvPicPr/>
          <p:nvPr/>
        </p:nvPicPr>
        <p:blipFill>
          <a:blip r:embed="rId2"/>
          <a:stretch/>
        </p:blipFill>
        <p:spPr>
          <a:xfrm>
            <a:off x="4575240" y="3787920"/>
            <a:ext cx="1977840" cy="28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3" name="Picture 2" descr="Scoliolisis2"/>
          <p:cNvPicPr/>
          <p:nvPr/>
        </p:nvPicPr>
        <p:blipFill>
          <a:blip r:embed="rId1"/>
          <a:stretch/>
        </p:blipFill>
        <p:spPr>
          <a:xfrm>
            <a:off x="468360" y="1844640"/>
            <a:ext cx="3673440" cy="4562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Scoliolisis3"/>
          <p:cNvPicPr/>
          <p:nvPr/>
        </p:nvPicPr>
        <p:blipFill>
          <a:blip r:embed="rId2"/>
          <a:stretch/>
        </p:blipFill>
        <p:spPr>
          <a:xfrm>
            <a:off x="4572000" y="1844640"/>
            <a:ext cx="374508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助行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150840" y="142704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buClr>
                <a:srgbClr val="ffc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助行器</a:t>
            </a:r>
            <a:r>
              <a:rPr b="1" i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：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辅助步行困难的肢体残疾者支撑体重，保持平衡，减轻下肢负荷的工具，如杖、步行器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7" name="Picture 4" descr="C:\Documents and Settings\ym\My Documents\My Pictures\医学图片\kfq9.gif"/>
          <p:cNvPicPr/>
          <p:nvPr/>
        </p:nvPicPr>
        <p:blipFill>
          <a:blip r:embed="rId1"/>
          <a:stretch/>
        </p:blipFill>
        <p:spPr>
          <a:xfrm>
            <a:off x="250920" y="3068640"/>
            <a:ext cx="3024000" cy="2828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E:\pic\5.jpg"/>
          <p:cNvPicPr/>
          <p:nvPr/>
        </p:nvPicPr>
        <p:blipFill>
          <a:blip r:embed="rId2"/>
          <a:stretch/>
        </p:blipFill>
        <p:spPr>
          <a:xfrm>
            <a:off x="3348000" y="2349360"/>
            <a:ext cx="5616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轮  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79280" y="1341000"/>
            <a:ext cx="878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轮椅的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座位的宽度测量坐下时两臀间或两股间的距离，再加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5cm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，即坐下后两边各有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2.5cm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的空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座位长度测量坐下时后臀部至小腿腓肠肌之间的水平距离，将测量结果减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6.5cm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座位高度测量坐下时足跟（或鞋跟）至腘窝的距离，再加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4cm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，在放置脚踏板时，板面至少离地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5cm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轮  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轮椅的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坐垫为了舒适和防止压疮，座位上应放坐垫，可用泡沫橡胶（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10cm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厚）或凝胶垫子。为防止座位下陷可在坐垫下放一张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0.6cm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厚的胶合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靠背高度靠背越高，越稳定，靠背越低，上身及上肢的活动就越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轮  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87360" y="1196640"/>
            <a:ext cx="8432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轮椅的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扶手高度坐下时，上臂垂直，前臂平放于扶手上，测量椅面至前臂下缘的高度，加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2.5cm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。适当的扶手高度有助于保持正确的身体姿势和平衡，并可使上肢放置在舒适的位置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轮椅其他辅助件为满足特殊的患者需要而设计，如增加手柄摩擦面，车闸延伸，防震装置，防滑装置，扶手安装臂托，轮椅桌方便患者吃饭、写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轮  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Picture 2" descr="DSC00044"/>
          <p:cNvPicPr/>
          <p:nvPr/>
        </p:nvPicPr>
        <p:blipFill>
          <a:blip r:embed="rId1"/>
          <a:stretch/>
        </p:blipFill>
        <p:spPr>
          <a:xfrm>
            <a:off x="514440" y="1819440"/>
            <a:ext cx="828036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  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79280" y="1341000"/>
            <a:ext cx="532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康复工程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rehabilitation engineering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是工程技术人员在全面康复和有关工程理论的指导下，与各个康复领域的康复工作者、残疾人、残疾人家属密切合作，以各种工艺技术为手段，帮助残疾人最大限度地开发潜能，恢复其独立生活、学习、工作、回归社会、参与社会能力的科学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" name="Picture 4" descr="刀锋战士皮斯托瑞斯"/>
          <p:cNvPicPr/>
          <p:nvPr/>
        </p:nvPicPr>
        <p:blipFill>
          <a:blip r:embed="rId1"/>
          <a:stretch/>
        </p:blipFill>
        <p:spPr>
          <a:xfrm>
            <a:off x="5537160" y="1363680"/>
            <a:ext cx="30528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假  肢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324000" y="1620000"/>
            <a:ext cx="81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假肢 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rosthesi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是为恢复原有四肢的形态或功能，以补偿截肢造成的肢体部分缺损而制作和装配的人工肢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324000" y="4221360"/>
            <a:ext cx="81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选用假肢的原则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虽然每个截肢者都希望能恢复截去的肢体，尽可能保持正常的肢体外观，但在装配假肢时，要充分考虑到穿戴假肢后对基本功能的影响，以功能代偿为主。有时不一定要勉强装配假肢，例如有些截肢者装配了装饰假手，反而失去残手感觉，妨碍残手残余功能的发挥。此外，还应注意实效和价格效益比，要了解相关假肢的性能、特点和价格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假  肢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468360" y="2795760"/>
            <a:ext cx="41036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上肢假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用目的：改善外观形象；代替部分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截肢部位分为：假手指、掌部假肢、上臂假肢、前臂假肢、肘离断假肢、肩离断假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动力来源分为：自身动力源假手与外部动力源假手；按手的使用目的可分为功能手、装饰手、工具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常用的上肢假肢有功能手、装饰手、工具手和外部动力源假手等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5" name="Picture 4" descr="E:\pic\3.jpg"/>
          <p:cNvPicPr/>
          <p:nvPr/>
        </p:nvPicPr>
        <p:blipFill>
          <a:blip r:embed="rId1"/>
          <a:stretch/>
        </p:blipFill>
        <p:spPr>
          <a:xfrm>
            <a:off x="4716360" y="1268280"/>
            <a:ext cx="4125960" cy="2808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英国仿生手-最高工程奖"/>
          <p:cNvPicPr/>
          <p:nvPr/>
        </p:nvPicPr>
        <p:blipFill>
          <a:blip r:embed="rId2"/>
          <a:stretch/>
        </p:blipFill>
        <p:spPr>
          <a:xfrm>
            <a:off x="4716360" y="4200480"/>
            <a:ext cx="399744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假  肢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539640" y="2301840"/>
            <a:ext cx="35276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下肢假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用下肢假肢的目的是为了保持双下肢等长，支持体重和行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常用的下肢假肢有部分足假肢、小腿假肢、大腿假肢、膝离断假肢和髋离断假肢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Picture 5" descr="cleg_4646"/>
          <p:cNvPicPr/>
          <p:nvPr/>
        </p:nvPicPr>
        <p:blipFill>
          <a:blip r:embed="rId1"/>
          <a:stretch/>
        </p:blipFill>
        <p:spPr>
          <a:xfrm>
            <a:off x="4284720" y="1557360"/>
            <a:ext cx="38163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04920" y="1371600"/>
            <a:ext cx="86104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矫形器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orthosis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是装配于人体四肢、躯干等部位，通过力的作用以预防、矫正畸形，治疗骨关节及神经肌肉疾患并补偿其功能的器械。用于躯干和下肢的也称支具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race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用于上肢的也称夹板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plint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矫形器的基本作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稳定和支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固定和矫正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护和免负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偿与助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179280" y="3486240"/>
            <a:ext cx="45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ffc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下肢矫形器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支撑体重，辅助或替代肢体功能，限制下肢关节不必要的活动，保持下肢的稳定性，改善站立和步行时的姿态，预防和矫正畸形。常用品种有：金属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F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塑料布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F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KAF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负荷性下肢矫形器、丹尼斯布朗足板和辅助治疗先天性髋脱位的矫形器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5" name="Picture 2" descr="DSC00031"/>
          <p:cNvPicPr/>
          <p:nvPr/>
        </p:nvPicPr>
        <p:blipFill>
          <a:blip r:embed="rId1"/>
          <a:stretch/>
        </p:blipFill>
        <p:spPr>
          <a:xfrm>
            <a:off x="4859280" y="1484280"/>
            <a:ext cx="374508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7" name="Picture 2" descr="Foot6"/>
          <p:cNvPicPr/>
          <p:nvPr/>
        </p:nvPicPr>
        <p:blipFill>
          <a:blip r:embed="rId1"/>
          <a:stretch/>
        </p:blipFill>
        <p:spPr>
          <a:xfrm>
            <a:off x="539640" y="1916280"/>
            <a:ext cx="4248360" cy="41781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kneeexo"/>
          <p:cNvPicPr/>
          <p:nvPr/>
        </p:nvPicPr>
        <p:blipFill>
          <a:blip r:embed="rId2"/>
          <a:stretch/>
        </p:blipFill>
        <p:spPr>
          <a:xfrm>
            <a:off x="5076720" y="1916280"/>
            <a:ext cx="3456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0" name="Picture 2" descr="DSC00037"/>
          <p:cNvPicPr/>
          <p:nvPr/>
        </p:nvPicPr>
        <p:blipFill>
          <a:blip r:embed="rId1"/>
          <a:stretch/>
        </p:blipFill>
        <p:spPr>
          <a:xfrm>
            <a:off x="324000" y="1916280"/>
            <a:ext cx="4105080" cy="4438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DSC00047"/>
          <p:cNvPicPr/>
          <p:nvPr/>
        </p:nvPicPr>
        <p:blipFill>
          <a:blip r:embed="rId2"/>
          <a:stretch/>
        </p:blipFill>
        <p:spPr>
          <a:xfrm>
            <a:off x="4859280" y="1916280"/>
            <a:ext cx="36003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药蓉</cp:lastModifiedBy>
  <dcterms:modified xsi:type="dcterms:W3CDTF">2015-04-27T07:42:07Z</dcterms:modified>
  <cp:revision>110</cp:revision>
  <dc:subject/>
  <dc:title>内科护理学</dc:title>
</cp:coreProperties>
</file>